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6E3-3DFA-46D4-A4AA-D3AB377C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74A-0018-4D49-B12C-95DA499E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6E0-52F6-47DA-9DCE-284D7CDD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8EC-4CFC-450D-A131-BC941339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E4B-B510-499C-BC3F-CA0B38D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690-994D-4627-BEBD-FC038D00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A2F-D4ED-4769-BA40-8724823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D14-61AE-4335-89EA-90544EE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68F-52E2-4DFD-A553-024FFAE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310-776D-4A98-8959-5454CAE5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ADF-ECC9-42EE-A3F1-F65303C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F6C-D7A0-466E-86B6-2795F45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076-CDA5-46CC-99C3-21DA22A6117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National Par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Dartmoor, 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artmoor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s one of the 12 designated National Parks in England and Wa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but two (the Broads and the New Forest) were set up after the "National parks and Access to the Countryside Act" was passed in 194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They had two main aim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reserve and enhance the natural beauty of the are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promote the enjoyment of the area by the general public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peakdistrict-nationalpark.info/_images/_maps/nationalParksMap.gif"/>
          <p:cNvPicPr/>
          <p:nvPr/>
        </p:nvPicPr>
        <p:blipFill>
          <a:blip r:embed="rId1"/>
          <a:stretch/>
        </p:blipFill>
        <p:spPr>
          <a:xfrm>
            <a:off x="1835280" y="95400"/>
            <a:ext cx="52578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flict In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nce their designation, National Parks have been the subject of conflicting uses, which has only been increased by the rising numbers of tourists who visit the area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part from the tourists, other people who have an interest in the parks include local farmers, local residents, the Army, the Forestry Commission, the National Trust and the Water Boar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artmoor is an example of a national park where many of these users have some into conflic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And 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rtmoor plays host to over 8 million visitors every ye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erms of some of the other National Parks, such as the Lake District or the Peak District, this is a relatively small number but it still has brought its fair share of advantages and disadvantag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se visitors come to walk or mountain bike on the moor, look around the picturesque villages or use the reservoirs for water spor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rmers use the moor for grazing their sheep, and quickly get very annoyed when they have flocks disturbed by dogs let loose by their owners out for a wal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is an army camp near Okehampton, in the north of the mo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orthern half of the moor is a military firing range, where they practice with live ammunition, both bullets and shell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viously this can cause problems for tourists unaware of the firing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flags designate the area, but there still have been times when people have found themselves in the middle of a training exerci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advantage of the military use of the moor is that it does mean that less people go to that area, and so the natural environment is protect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uge tourist numbers puts great pressures on the narrow roads found all over Dartmo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tional parks Authority has introduced car parks and information centres to try to concentrate the visitors to certain areas, whilst protecting oth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 parks also prevent the problems found in some villages of tourists parking their cars on the grassy ver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Honeypot" sites, such as Hay Tor, attract a disproportionate amount of visitors, creating problems of parking, footpath erosion and litter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PA has had to try to encourage people to go to other equally spectacular tors to try to take the pressure off the Hay Tor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ase in recreation activities such as mountain biking, water sports and hang-gliding has put pressure on the natural resources of the ar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ilities for tourists have also come under pressure as more and more people come to the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tions have been attempted, such as promoting other parts of the moor, introducing more tourist facilities and restricting where people can and cannot wal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have been reasonably successful in protecting the ar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47:41Z</dcterms:created>
  <dc:creator>Dell_02</dc:creator>
  <dc:description/>
  <dc:language>en-US</dc:language>
  <cp:lastModifiedBy>Dell_02</cp:lastModifiedBy>
  <dcterms:modified xsi:type="dcterms:W3CDTF">2011-01-27T00:56:59Z</dcterms:modified>
  <cp:revision>1</cp:revision>
  <dc:subject/>
  <dc:title>National Parks</dc:title>
</cp:coreProperties>
</file>